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14CD-3B83-4219-9DFB-AF6BEA6A8F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CSE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 B: Blood Broth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lat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given one unseen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sponse – do not say that it’s boring or c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Poetry (FITCL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B: Blood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 (a quotation) a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an ide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: Conn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nswer Question 1a, it is based on an extrac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nswer either Question 1b or Question 1c these relate to the novel as a w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they are all lonely in some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A: Of Mice an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E85-22D8-4B49-AB5A-46E4F64C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2AC4-03FC-4F50-811D-0072E454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5C7-0BED-42E5-8FE9-C13CED290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B07-2682-4DD3-998A-52672B57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8C4A-3D5B-4EF4-8608-4A964287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BCC1-6FAD-4AAE-AE55-BDDC3E8D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0796-F8BF-46E3-BDE8-847E589E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396C-0FCD-4D3D-88C4-D174366B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AA23-3617-436C-8BE7-00B72ADA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33C2-8B6F-4065-BE26-7E25A011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E760-01E0-4BA6-AB36-82596BE5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2E8-A8E4-4371-9B09-1DA96253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B0D3-978C-4E15-8716-376BF018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D6D8-0C8A-42FF-B7D5-0A37507C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DA1D-A3CE-4E7E-ABCC-495B7114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DFBA-35D4-4F39-AD0F-594BFDF1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732D-715C-4488-8B83-72BCBA84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8ED-B871-4D5B-A4B9-22363383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CE5-8002-479B-AF45-D0885FC1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2592-EAE2-4447-8233-DFCD4968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C91-644C-435E-8A77-23576CD9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440-C3BC-4AF2-A7FE-3115F1FA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35D-4F2D-418F-B8A7-9E9EFF9E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E8E-DD10-4717-AECF-1C1A9363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5055-E6EB-487D-A89F-4F9671DBA6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BECD-C6B6-4225-8340-67758FC8BB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330033"/>
                </a:solidFill>
                <a:latin typeface="Times New Roman"/>
              </a:rPr>
              <a:t>GCSE English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uses lots of adjectives to describe his characters and the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ovel is divided into 6 chapters each like a small act in a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opens each chapter by describing a setting and introduces each character with a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have in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Russell present them? (consider their language and ac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pla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lass – working V.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ure V. Nu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ies – family and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yalty and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pportunities e.g.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sponsibility for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verpool late 20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dustrialised Nor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fferences between the impoverished and ill educated lower classes and the wealthier opportunistic middl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Section B: </a:t>
            </a:r>
            <a:r>
              <a:rPr b="1" lang="en-GB" sz="4600" spc="-1" strike="noStrike" u="sng">
                <a:solidFill>
                  <a:srgbClr val="330033"/>
                </a:solidFill>
                <a:uFillTx/>
                <a:latin typeface="Times New Roman"/>
              </a:rPr>
              <a:t>Blood Brothers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Language an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lloquial Liverpudlian V. Standard Engli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se of songs to project character, description and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llows the structure of a play but uses the narrator as a link 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will be giv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seen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may be given a series of bullet points to help you to discuss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em’s cont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s the poet puts acro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od of the poe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ay it’s written e.g. language poetic devices etc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your response – </a:t>
            </a:r>
            <a:r>
              <a:rPr b="1" i="1" lang="en-GB" sz="2900" spc="-1" strike="noStrike">
                <a:solidFill>
                  <a:srgbClr val="000000"/>
                </a:solidFill>
                <a:latin typeface="Arial"/>
              </a:rPr>
              <a:t>do not say that it’s boring or cra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C: Poetry (FITCLASS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 – the layout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as – the themes that are 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ne – think, tone of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 – social, historical an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nguage – devices such as: enjambment, personification, metaphor and si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itudes – of poet and narrator (they may be separat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nd – use of alliteration, assonance, onomatopoe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– the content of the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30033"/>
                </a:solidFill>
                <a:latin typeface="Times New Roman"/>
              </a:rPr>
              <a:t>Timing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2 ½  hours allowed in tot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A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Of Mice and Me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B: </a:t>
            </a:r>
            <a:r>
              <a:rPr b="0" lang="en-GB" sz="3100" spc="-1" strike="noStrike" u="sng">
                <a:solidFill>
                  <a:srgbClr val="000000"/>
                </a:solidFill>
                <a:uFillTx/>
                <a:latin typeface="Arial"/>
              </a:rPr>
              <a:t>Blood Broth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1 hou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Section C: Unseen Poe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3100" spc="-1" strike="noStrike">
                <a:solidFill>
                  <a:srgbClr val="000000"/>
                </a:solidFill>
                <a:latin typeface="Arial"/>
              </a:rPr>
              <a:t>Allow 30 minu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500" spc="-1" strike="noStrike">
                <a:solidFill>
                  <a:srgbClr val="330033"/>
                </a:solidFill>
                <a:latin typeface="Times New Roman"/>
              </a:rPr>
              <a:t>PEE:</a:t>
            </a:r>
            <a:endParaRPr b="0" lang="en-US" sz="6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oint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vidence (a quotation) and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planatio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upporting an ide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... therefore... because... but... and... furthermore.. also... in addition... then... as well as... next... whereas... in contrast... later... at first... similarly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PEE: Connectiv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plaining an idea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mplies... this suggests... which gives the impression that... this shows... this clearly shows... possibly... perhaps... this indicates that... obviously... this conveys to the reader that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answer Question 1a, it is based on an extract include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You can answer </a:t>
            </a:r>
            <a:r>
              <a:rPr b="0" lang="en-GB" sz="3500" spc="-1" strike="noStrike" u="sng">
                <a:solidFill>
                  <a:srgbClr val="000000"/>
                </a:solidFill>
                <a:uFillTx/>
                <a:latin typeface="Arial"/>
              </a:rPr>
              <a:t>either</a:t>
            </a:r>
            <a:r>
              <a:rPr b="0" lang="en-GB" sz="3500" spc="-1" strike="noStrike">
                <a:solidFill>
                  <a:srgbClr val="000000"/>
                </a:solidFill>
                <a:latin typeface="Arial"/>
              </a:rPr>
              <a:t> Question 1b or Question 1c these relate to the novel as a who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hat role do they play in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 they interact with the other character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does Steinbeck present them? (consider the language he uses to describe the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are they linked to the themes of the nove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equality – gender, racial, di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oneliness – they are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lonely in som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merican Dream – own land, security, positiv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riendships – lack of positive relations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Section A: </a:t>
            </a:r>
            <a:r>
              <a:rPr b="1" lang="en-GB" sz="4200" spc="-1" strike="noStrike" u="sng">
                <a:solidFill>
                  <a:srgbClr val="330033"/>
                </a:solidFill>
                <a:uFillTx/>
                <a:latin typeface="Times New Roman"/>
              </a:rPr>
              <a:t>Of Mice and Me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against the aftermath of the 1930s De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millions lost their liveli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had to travel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inbeck experienced the lifestyle him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tle refers to Robert Burns’ poem and suggests that all we plan for doesn’t always come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4:01:47Z</dcterms:created>
  <dc:creator>al</dc:creator>
  <dc:description/>
  <dc:language>en-US</dc:language>
  <cp:lastModifiedBy>RomaK</cp:lastModifiedBy>
  <dcterms:modified xsi:type="dcterms:W3CDTF">2015-09-02T09:42:44Z</dcterms:modified>
  <cp:revision>7</cp:revision>
  <dc:subject/>
  <dc:title>GCSE English literature</dc:title>
</cp:coreProperties>
</file>